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309C-3F22-4B92-B3A6-B4FC6530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7F0D4-4171-42AC-B19B-36E4F9F4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5D53-B0EF-40E7-88B7-448784A7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544A-212A-4CEF-8869-3126C28D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A8BB-5F70-4F6E-9DAC-FE88F8A2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52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376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F83E-908E-4112-B52B-168F3F4A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E721-2810-464B-BB59-901A86F1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21DC-0ACD-4625-8108-CE969465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30B3-813C-45F6-90C7-2E0CF7E7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6D7D-AAD7-4D8A-87E4-F5C3A4A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376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08F7-14BA-4C7C-8AD2-9DDE716D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4364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52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376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856E-7A2A-4C90-92F9-BE6B71D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505320" y="646128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CCA9-D5FD-4512-8318-313562E85B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6"/>
          <p:cNvSpPr/>
          <p:nvPr/>
        </p:nvSpPr>
        <p:spPr>
          <a:xfrm>
            <a:off x="0" y="838080"/>
            <a:ext cx="9144000" cy="244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4040" y="837720"/>
            <a:ext cx="8458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8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pic>
        <p:nvPicPr>
          <p:cNvPr id="44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4"/>
          <p:cNvSpPr/>
          <p:nvPr/>
        </p:nvSpPr>
        <p:spPr>
          <a:xfrm>
            <a:off x="376200" y="228600"/>
            <a:ext cx="114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6379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52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63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637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6379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379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1680" y="4647960"/>
            <a:ext cx="9175680" cy="1012680"/>
          </a:xfrm>
          <a:prstGeom prst="rect">
            <a:avLst/>
          </a:prstGeom>
          <a:gradFill rotWithShape="0">
            <a:gsLst>
              <a:gs pos="0">
                <a:srgbClr val="0a1944"/>
              </a:gs>
              <a:gs pos="50000">
                <a:srgbClr val="163794"/>
              </a:gs>
              <a:gs pos="100000">
                <a:srgbClr val="0a1944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ẫu Slide PowerPoin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58672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ttp://blogcongdong.com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538a"/>
              </a:gs>
              <a:gs pos="50000">
                <a:srgbClr val="6699ff"/>
              </a:gs>
              <a:gs pos="100000">
                <a:srgbClr val="37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61a2"/>
              </a:gs>
              <a:gs pos="100000">
                <a:srgbClr val="66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8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8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29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9999">
                  <a:alpha val="32156"/>
                </a:srgbClr>
              </a:gs>
              <a:gs pos="100000">
                <a:srgbClr val="0047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5353"/>
              </a:gs>
              <a:gs pos="50000">
                <a:srgbClr val="009999"/>
              </a:gs>
              <a:gs pos="100000">
                <a:srgbClr val="0053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06161"/>
              </a:gs>
              <a:gs pos="100000">
                <a:srgbClr val="00999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9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9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0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2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0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0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09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Freeform 4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379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314" name="Oval 35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5" name="Oval 36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7" name="Oval 38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8" name="Oval 39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19" name="Text Box 40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21" name="Group 42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322" name="Oval 43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3" name="Oval 44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4" name="Oval 45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5" name="Oval 46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26" name="Text Box 47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327" name="Oval 48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0" name="Oval 51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2" name="Text Box 53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7" name="Oval 58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38" name="Text Box 59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43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4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5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6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47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48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49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52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54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5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6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57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60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1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3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64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365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66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7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8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69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1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71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72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3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4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5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6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7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8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79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0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1" name="Text Box 42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38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8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8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39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392" name="Text Box 53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39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9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9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39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40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40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40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5" name="Text Box 66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41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1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1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41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1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0" name="Oval 14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2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2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2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42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6" name="AutoShape 20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2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1" name="Oval 25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2" name="Oval 26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3" name="Oval 27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6" name="AutoShape 30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37" name="AutoShape 31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3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439" name="AutoShape 33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1" name="AutoShape 35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42" name="AutoShape 36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43" name="Group 37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444" name="Oval 38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5" name="Oval 39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6" name="Oval 40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7" name="Oval 41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48" name="Oval 42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44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0" name="Text Box 44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2" name="AutoShape 46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4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7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59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60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61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2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64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65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7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8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69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0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71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472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73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4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5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76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78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79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0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2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83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5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6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7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488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489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0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1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2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493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494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95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96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497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99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0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2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3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4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5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06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07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08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09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0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1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3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4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5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7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18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0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1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2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3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24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25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26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7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8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29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1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2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3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4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5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6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37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3794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38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39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0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1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42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543" name="AutoShape 90"/>
            <p:cNvCxnSpPr>
              <a:stCxn id="539" idx="3"/>
              <a:endCxn id="540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91"/>
            <p:cNvCxnSpPr>
              <a:stCxn id="540" idx="3"/>
              <a:endCxn id="541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452600" y="1246320"/>
            <a:ext cx="5786280" cy="5078160"/>
            <a:chOff x="1452600" y="1246320"/>
            <a:chExt cx="5786280" cy="5078160"/>
          </a:xfrm>
        </p:grpSpPr>
        <p:sp>
          <p:nvSpPr>
            <p:cNvPr id="550" name="Oval 4"/>
            <p:cNvSpPr/>
            <p:nvPr/>
          </p:nvSpPr>
          <p:spPr>
            <a:xfrm>
              <a:off x="5367240" y="210672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4081320" y="379260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2" name="Oval 6"/>
            <p:cNvSpPr/>
            <p:nvPr/>
          </p:nvSpPr>
          <p:spPr>
            <a:xfrm>
              <a:off x="5414760" y="5818320"/>
              <a:ext cx="1824120" cy="50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3" name="Oval 7"/>
            <p:cNvSpPr/>
            <p:nvPr/>
          </p:nvSpPr>
          <p:spPr>
            <a:xfrm>
              <a:off x="1681200" y="445464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4" name="Rectangle 8"/>
            <p:cNvSpPr/>
            <p:nvPr/>
          </p:nvSpPr>
          <p:spPr>
            <a:xfrm rot="13770000">
              <a:off x="4917600" y="368784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555" name="Rectangle 9"/>
            <p:cNvSpPr/>
            <p:nvPr/>
          </p:nvSpPr>
          <p:spPr>
            <a:xfrm rot="20856000">
              <a:off x="2928600" y="323532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3867120" y="1929240"/>
              <a:ext cx="1706400" cy="1836360"/>
              <a:chOff x="3867120" y="1929240"/>
              <a:chExt cx="1706400" cy="1836360"/>
            </a:xfrm>
          </p:grpSpPr>
          <p:sp>
            <p:nvSpPr>
              <p:cNvPr id="557" name="Rectangle 11"/>
              <p:cNvSpPr/>
              <p:nvPr/>
            </p:nvSpPr>
            <p:spPr>
              <a:xfrm rot="18394200">
                <a:off x="5043960" y="214236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grpSp>
            <p:nvGrpSpPr>
              <p:cNvPr id="558" name="Group 12"/>
              <p:cNvGrpSpPr/>
              <p:nvPr/>
            </p:nvGrpSpPr>
            <p:grpSpPr>
              <a:xfrm>
                <a:off x="3867120" y="2174760"/>
                <a:ext cx="1609560" cy="1590840"/>
                <a:chOff x="3867120" y="2174760"/>
                <a:chExt cx="1609560" cy="1590840"/>
              </a:xfrm>
            </p:grpSpPr>
            <p:sp>
              <p:nvSpPr>
                <p:cNvPr id="559" name="Oval 13"/>
                <p:cNvSpPr/>
                <p:nvPr/>
              </p:nvSpPr>
              <p:spPr>
                <a:xfrm>
                  <a:off x="3867120" y="217476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4"/>
                <p:cNvSpPr/>
                <p:nvPr/>
              </p:nvSpPr>
              <p:spPr>
                <a:xfrm>
                  <a:off x="4051080" y="220104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Text Box 15"/>
              <p:cNvSpPr/>
              <p:nvPr/>
            </p:nvSpPr>
            <p:spPr>
              <a:xfrm>
                <a:off x="3953880" y="2867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6"/>
            <p:cNvGrpSpPr/>
            <p:nvPr/>
          </p:nvGrpSpPr>
          <p:grpSpPr>
            <a:xfrm>
              <a:off x="5276880" y="1246320"/>
              <a:ext cx="891720" cy="861840"/>
              <a:chOff x="5276880" y="1246320"/>
              <a:chExt cx="891720" cy="861840"/>
            </a:xfrm>
          </p:grpSpPr>
          <p:grpSp>
            <p:nvGrpSpPr>
              <p:cNvPr id="563" name="Group 17"/>
              <p:cNvGrpSpPr/>
              <p:nvPr/>
            </p:nvGrpSpPr>
            <p:grpSpPr>
              <a:xfrm>
                <a:off x="5276880" y="1246320"/>
                <a:ext cx="871560" cy="861840"/>
                <a:chOff x="5276880" y="1246320"/>
                <a:chExt cx="871560" cy="861840"/>
              </a:xfrm>
            </p:grpSpPr>
            <p:sp>
              <p:nvSpPr>
                <p:cNvPr id="564" name="Oval 18"/>
                <p:cNvSpPr/>
                <p:nvPr/>
              </p:nvSpPr>
              <p:spPr>
                <a:xfrm>
                  <a:off x="5276880" y="124632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9"/>
                <p:cNvSpPr/>
                <p:nvPr/>
              </p:nvSpPr>
              <p:spPr>
                <a:xfrm>
                  <a:off x="5376240" y="1260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20"/>
              <p:cNvSpPr/>
              <p:nvPr/>
            </p:nvSpPr>
            <p:spPr>
              <a:xfrm>
                <a:off x="5297400" y="1577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1"/>
            <p:cNvGrpSpPr/>
            <p:nvPr/>
          </p:nvGrpSpPr>
          <p:grpSpPr>
            <a:xfrm>
              <a:off x="1452600" y="2571840"/>
              <a:ext cx="1744560" cy="1790640"/>
              <a:chOff x="1452600" y="2571840"/>
              <a:chExt cx="1744560" cy="1790640"/>
            </a:xfrm>
          </p:grpSpPr>
          <p:grpSp>
            <p:nvGrpSpPr>
              <p:cNvPr id="568" name="Group 22"/>
              <p:cNvGrpSpPr/>
              <p:nvPr/>
            </p:nvGrpSpPr>
            <p:grpSpPr>
              <a:xfrm>
                <a:off x="1452600" y="2571840"/>
                <a:ext cx="1744560" cy="1790640"/>
                <a:chOff x="1452600" y="2571840"/>
                <a:chExt cx="1744560" cy="1790640"/>
              </a:xfrm>
            </p:grpSpPr>
            <p:sp>
              <p:nvSpPr>
                <p:cNvPr id="569" name="Oval 23"/>
                <p:cNvSpPr/>
                <p:nvPr/>
              </p:nvSpPr>
              <p:spPr>
                <a:xfrm>
                  <a:off x="1452600" y="257184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6f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24"/>
                <p:cNvSpPr/>
                <p:nvPr/>
              </p:nvSpPr>
              <p:spPr>
                <a:xfrm>
                  <a:off x="1652040" y="260136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Text Box 25"/>
              <p:cNvSpPr/>
              <p:nvPr/>
            </p:nvSpPr>
            <p:spPr>
              <a:xfrm>
                <a:off x="1546560" y="3367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6"/>
            <p:cNvGrpSpPr/>
            <p:nvPr/>
          </p:nvGrpSpPr>
          <p:grpSpPr>
            <a:xfrm>
              <a:off x="5208480" y="3832200"/>
              <a:ext cx="2013120" cy="1989000"/>
              <a:chOff x="5208480" y="3832200"/>
              <a:chExt cx="2013120" cy="19890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5208480" y="3832200"/>
                <a:ext cx="2013120" cy="1989000"/>
                <a:chOff x="5208480" y="3832200"/>
                <a:chExt cx="2013120" cy="1989000"/>
              </a:xfrm>
            </p:grpSpPr>
            <p:sp>
              <p:nvSpPr>
                <p:cNvPr id="574" name="Oval 28"/>
                <p:cNvSpPr/>
                <p:nvPr/>
              </p:nvSpPr>
              <p:spPr>
                <a:xfrm>
                  <a:off x="5208480" y="383220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853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9"/>
                <p:cNvSpPr/>
                <p:nvPr/>
              </p:nvSpPr>
              <p:spPr>
                <a:xfrm>
                  <a:off x="5438520" y="386496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379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30"/>
              <p:cNvSpPr/>
              <p:nvPr/>
            </p:nvSpPr>
            <p:spPr>
              <a:xfrm>
                <a:off x="5496840" y="4694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8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58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584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8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8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8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89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0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2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9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4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5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596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597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pSp>
          <p:nvGrpSpPr>
            <p:cNvPr id="598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99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0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1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602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603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0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0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379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838080" y="22417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63794"/>
                      </a:solidFill>
                    </a:lnR>
                    <a:lnT>
                      <a:noFill/>
                    </a:lnT>
                    <a:lnB w="5760">
                      <a:solidFill>
                        <a:srgbClr val="16379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63794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6379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63794"/>
                      </a:solidFill>
                    </a:lnL>
                    <a:lnR w="5760">
                      <a:solidFill>
                        <a:srgbClr val="163794"/>
                      </a:solidFill>
                    </a:lnR>
                    <a:lnT w="5760">
                      <a:solidFill>
                        <a:srgbClr val="163794"/>
                      </a:solidFill>
                    </a:lnT>
                    <a:lnB w="5760">
                      <a:solidFill>
                        <a:srgbClr val="163794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17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618" name="Group 2"/>
          <p:cNvGrpSpPr/>
          <p:nvPr/>
        </p:nvGrpSpPr>
        <p:grpSpPr>
          <a:xfrm>
            <a:off x="1254240" y="1378800"/>
            <a:ext cx="6599160" cy="4675680"/>
            <a:chOff x="1254240" y="1378800"/>
            <a:chExt cx="6599160" cy="4675680"/>
          </a:xfrm>
        </p:grpSpPr>
        <p:sp>
          <p:nvSpPr>
            <p:cNvPr id="619" name="Oval 3"/>
            <p:cNvSpPr/>
            <p:nvPr/>
          </p:nvSpPr>
          <p:spPr>
            <a:xfrm>
              <a:off x="2290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0" name="Oval 4"/>
            <p:cNvSpPr/>
            <p:nvPr/>
          </p:nvSpPr>
          <p:spPr>
            <a:xfrm rot="20601600">
              <a:off x="1565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1" name="Oval 5"/>
            <p:cNvSpPr/>
            <p:nvPr/>
          </p:nvSpPr>
          <p:spPr>
            <a:xfrm rot="20601600">
              <a:off x="1621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2" name="Arc 6"/>
            <p:cNvSpPr/>
            <p:nvPr/>
          </p:nvSpPr>
          <p:spPr>
            <a:xfrm rot="20601600">
              <a:off x="4278240" y="200304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ebe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3" name="Arc 7"/>
            <p:cNvSpPr/>
            <p:nvPr/>
          </p:nvSpPr>
          <p:spPr>
            <a:xfrm flipH="1" rot="20602200">
              <a:off x="1865880" y="387828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6b6b"/>
                </a:gs>
                <a:gs pos="100000">
                  <a:srgbClr val="00999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4" name="Arc 8"/>
            <p:cNvSpPr/>
            <p:nvPr/>
          </p:nvSpPr>
          <p:spPr>
            <a:xfrm rot="20601600">
              <a:off x="2874960" y="204912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4a6fb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5" name="Arc 9"/>
            <p:cNvSpPr/>
            <p:nvPr/>
          </p:nvSpPr>
          <p:spPr>
            <a:xfrm flipH="1" rot="20602200">
              <a:off x="1522800" y="264312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>
              <a:off x="5616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65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7" name="Arc 11"/>
            <p:cNvSpPr/>
            <p:nvPr/>
          </p:nvSpPr>
          <p:spPr>
            <a:xfrm rot="20539200">
              <a:off x="4660920" y="293508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4627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29" name="Oval 13"/>
            <p:cNvSpPr/>
            <p:nvPr/>
          </p:nvSpPr>
          <p:spPr>
            <a:xfrm rot="20601600">
              <a:off x="3082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0" name="Text Box 14"/>
            <p:cNvSpPr/>
            <p:nvPr/>
          </p:nvSpPr>
          <p:spPr>
            <a:xfrm>
              <a:off x="2073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1" name="Text Box 15"/>
            <p:cNvSpPr/>
            <p:nvPr/>
          </p:nvSpPr>
          <p:spPr>
            <a:xfrm>
              <a:off x="3978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5807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5502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92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5" name="Freeform 19"/>
            <p:cNvSpPr/>
            <p:nvPr/>
          </p:nvSpPr>
          <p:spPr>
            <a:xfrm>
              <a:off x="4546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9b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36" name="Oval 20"/>
            <p:cNvSpPr/>
            <p:nvPr/>
          </p:nvSpPr>
          <p:spPr>
            <a:xfrm rot="20601600">
              <a:off x="3184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39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42" name="AutoShape 4"/>
            <p:cNvSpPr/>
            <p:nvPr/>
          </p:nvSpPr>
          <p:spPr>
            <a:xfrm>
              <a:off x="106668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bddff"/>
                </a:gs>
              </a:gsLst>
              <a:lin ang="5400000"/>
            </a:gradFill>
            <a:ln w="255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3" name="Object 5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5" name="AutoShape 6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7" name="AutoShape 8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48" name="AutoShape 9"/>
            <p:cNvSpPr/>
            <p:nvPr/>
          </p:nvSpPr>
          <p:spPr>
            <a:xfrm>
              <a:off x="4519440" y="2164680"/>
              <a:ext cx="3329280" cy="382284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2840"/>
                <a:gd name="textAreaBottom" fmla="*/ 3734280 h 3822840"/>
              </a:gdLst>
              <a:ahLst/>
              <a:rect l="textAreaLeft" t="textAreaTop" r="textAreaRight" b="textAreaBottom"/>
              <a:pathLst>
                <a:path w="21600" h="24802">
                  <a:moveTo>
                    <a:pt x="1967" y="0"/>
                  </a:moveTo>
                  <a:arcTo wR="1967" hR="1967" stAng="16200000" swAng="-5400000"/>
                  <a:lnTo>
                    <a:pt x="0" y="22835"/>
                  </a:lnTo>
                  <a:arcTo wR="1967" hR="1967" stAng="10800000" swAng="-5400000"/>
                  <a:lnTo>
                    <a:pt x="19633" y="24802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d8efef"/>
                </a:gs>
              </a:gsLst>
              <a:lin ang="5400000"/>
            </a:gra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graphicFrame>
          <p:nvGraphicFramePr>
            <p:cNvPr id="649" name="Object 10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2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0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1" name="AutoShape 47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2" name="AutoShape 48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96" name="AutoShape 52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9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9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0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2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0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7" name="Oval 63"/>
            <p:cNvSpPr/>
            <p:nvPr/>
          </p:nvSpPr>
          <p:spPr>
            <a:xfrm>
              <a:off x="2022120" y="27381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09" name="Oval 65"/>
            <p:cNvSpPr/>
            <p:nvPr/>
          </p:nvSpPr>
          <p:spPr>
            <a:xfrm>
              <a:off x="2041560" y="27572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4" name="Oval 70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6" name="Oval 72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1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1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1" name="Oval 77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grpSp>
        <p:nvGrpSpPr>
          <p:cNvPr id="12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8" name="Oval 84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2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0" name="Oval 86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3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286000" y="58672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Arial"/>
              </a:rPr>
              <a:t>http://blogcongdong.com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655" name="WordArt 5"/>
          <p:cNvSpPr txBox="1"/>
          <p:nvPr/>
        </p:nvSpPr>
        <p:spPr>
          <a:xfrm>
            <a:off x="1676520" y="38098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63794"/>
                    </a:gs>
                    <a:gs pos="100000">
                      <a:srgbClr val="009999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63794"/>
                  </a:gs>
                  <a:gs pos="100000">
                    <a:srgbClr val="009999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8840" y="146808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3794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63794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be5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e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6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7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2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148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d2ff"/>
                  </a:gs>
                  <a:gs pos="100000">
                    <a:srgbClr val="66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149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0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a6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1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7979"/>
                </a:gs>
                <a:gs pos="100000">
                  <a:srgbClr val="00999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52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  <p:sp>
        <p:nvSpPr>
          <p:cNvPr id="15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9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69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63794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6379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cxnSp>
          <p:nvCxnSpPr>
            <p:cNvPr id="177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63794"/>
              </a:solidFill>
              <a:miter/>
            </a:ln>
          </p:spPr>
        </p:cxnSp>
        <p:sp>
          <p:nvSpPr>
            <p:cNvPr id="17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8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5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06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7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8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0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1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3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7538a"/>
                  </a:gs>
                  <a:gs pos="50000">
                    <a:srgbClr val="6699ff"/>
                  </a:gs>
                  <a:gs pos="100000">
                    <a:srgbClr val="37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  <p:sp>
            <p:nvSpPr>
              <p:cNvPr id="214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3794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6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7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8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637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794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637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637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379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63794"/>
              </a:solidFill>
              <a:latin typeface="Arial"/>
            </a:endParaRPr>
          </a:p>
        </p:txBody>
      </p:sp>
      <p:grpSp>
        <p:nvGrpSpPr>
          <p:cNvPr id="24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46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50000">
                  <a:srgbClr val="990000"/>
                </a:gs>
                <a:gs pos="100000">
                  <a:srgbClr val="47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f0000"/>
                </a:gs>
                <a:gs pos="50000">
                  <a:srgbClr val="990000"/>
                </a:gs>
                <a:gs pos="100000">
                  <a:srgbClr val="6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6379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8672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3794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14400" y="83808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http://blogcongdong.com</a:t>
            </a: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0000"/>
              </a:gs>
              <a:gs pos="100000">
                <a:srgbClr val="b84d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94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63794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3794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637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04:10:44Z</dcterms:created>
  <dc:creator>Admin</dc:creator>
  <dc:description/>
  <dc:language>en-US</dc:language>
  <cp:lastModifiedBy>Anh Hung Pro</cp:lastModifiedBy>
  <dcterms:modified xsi:type="dcterms:W3CDTF">2016-09-06T14:46:54Z</dcterms:modified>
  <cp:revision>2</cp:revision>
  <dc:subject/>
  <dc:title>PowerPoint Template</dc:title>
</cp:coreProperties>
</file>